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C71-03EE-453A-84B2-90269C7A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E08-4F2F-4525-A403-A551C8FD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D5B-35C3-42CA-8CD1-5934BBFC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9A4-FBA1-4731-B828-BB18C77B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C0D-539C-4353-AAD5-3CF7657A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F75-189A-4E77-B904-064C582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080-E9F3-4102-A091-4DBF91A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DEC-E398-4D19-BE39-AD0B9F3A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D06-7577-4F22-A40E-118F6F73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2BA-4DA3-49D6-961B-439F869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E1E-56DD-400E-82FD-45DB2C20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01B-B0D1-4D62-B21C-D57BDCB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2108C-D03F-4CA5-81F7-5E0252076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s atoms into ions - oxi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"/>
          <p:cNvPicPr/>
          <p:nvPr/>
        </p:nvPicPr>
        <p:blipFill>
          <a:blip r:embed="rId1"/>
          <a:stretch/>
        </p:blipFill>
        <p:spPr>
          <a:xfrm>
            <a:off x="317520" y="1596960"/>
            <a:ext cx="836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metal atoms into ions -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protons (+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electro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roup numb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ctronic structu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electrons transferr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protons (+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electro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ctronic structure of 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rge of 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ses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,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"/>
          <p:cNvPicPr/>
          <p:nvPr/>
        </p:nvPicPr>
        <p:blipFill>
          <a:blip r:embed="rId1"/>
          <a:stretch/>
        </p:blipFill>
        <p:spPr>
          <a:xfrm>
            <a:off x="317520" y="1596960"/>
            <a:ext cx="836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11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7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48" name="TextBox 4"/>
          <p:cNvSpPr/>
          <p:nvPr/>
        </p:nvSpPr>
        <p:spPr>
          <a:xfrm>
            <a:off x="1192320" y="4164120"/>
            <a:ext cx="608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 positive 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 negative 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 metal 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n isotope of C-12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1:11:44Z</dcterms:created>
  <dc:creator>Nico Van De Casteele</dc:creator>
  <dc:description/>
  <dc:language>en-US</dc:language>
  <cp:lastModifiedBy>Nico Van De Casteele</cp:lastModifiedBy>
  <dcterms:modified xsi:type="dcterms:W3CDTF">2013-10-28T00:44:55Z</dcterms:modified>
  <cp:revision>3</cp:revision>
  <dc:subject/>
  <dc:title>PowerPoint Presentation</dc:title>
</cp:coreProperties>
</file>